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A72FFDBC-F8A0-45F0-B646-BAE5165D1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-609480" y="88740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4111200"/>
            <a:ext cx="53370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BC2-500D-4BC0-A16F-CC5A42D3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1E5-F6DA-4F6E-9BD8-D94FC8D1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281-1610-4471-A4D0-1EC64F62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2A8-63C7-40F0-8AD2-E546BC9E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264-57A9-4EBB-AE35-6D6E1E61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B43A-3A63-48B6-AC90-82CA9EF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ECC0-9C99-49DC-9396-5D1CEB25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CE9-536C-43D1-B236-93D5CFD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952F-0E2D-4C0E-8F1E-DDEB436F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060-7130-4379-8AC2-0FA57A3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A9A9-A6F7-4796-9EE5-8657213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B27-8EF6-49FA-975D-2D64FA4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0131-FF41-400F-9ED2-F2B38F7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02F4-4F3D-4358-9C97-B7360FC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61F5-DF68-4A1E-AB47-42FFF763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A874-D631-49C1-A6E4-D7DE8A78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54B7-717F-4BC3-BA79-B08D9902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C71-F812-420F-B3A3-60ADBAF5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868-F176-41D5-A849-EFDF5A2A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783-AC01-4D32-977D-AB1F048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9E7-C333-4BAD-A42D-B1E9DC7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578E-553D-4A9D-8D9B-82F24ED9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968-0D2C-4376-9B80-F37774D3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907-71E8-4B02-B90E-E1C73D0D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C0D1-68CD-4664-B3FF-8EB2CC23B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AED-2413-4FA5-8465-06824F264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krotik.com/2index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rotik.com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out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 al sistema operativo Router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hernet 10/100, Giga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lámbrica (Atheros, Prism, CISCO/Airo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nto de acceso o modo estación/cl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cronas: V35, T1, 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íncronas: Onboard serial, 8-port P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rtual LA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acceder a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e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ikroTik pueden ser accedidos v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y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 d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grafica Win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rramientas de manejo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erOS ofrece un buen numero de herramien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g, 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dor de ancho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bilización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iffer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MikroTik™ v2.6 PC Router Softw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3166920" cy="266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30364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imera vez que se entra use ‘admin’ sin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dentro teclee ‘?’ para ver los comandos disponibles en este nivel de me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inte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gumentos disponibles para cada comando se obtienen de la misma manera: ‘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avegación vía menús C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ya a un nivel diferente de comandos usando sintaxis absoluta o rel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interface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&gt; wireless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wireless &gt; .. eth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ethernet &gt; print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tecla [Tab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y argumentos no necesitan ser completamente tecleados, con teclear la tabla [Tab] se compl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un simple [Tab] no completa el comando, presiónelo 2 veces para ver las opciones dispon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s mas pop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mas populares en RouterOS en los menús CLI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 y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y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/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t’ y ‘Monito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’ es uno de los mas usados en CLI. Imprime una lista de cosas y puede ser usado con diferentes argumentos,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sta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interval=2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without-pag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‘print ?’ para ver los argument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’ usado repetidamente muestra el 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monitor wlan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‘add’, ‘set’, o ‘remove’ para adicionar, cambiar, o remo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deshabilitados sin removerlos, usando el comando ‘disabled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mov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con el comando ‘mov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nBox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es mucho mas fácil que el CLI, al ser una interfase 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es un pequeño programa que se ejecuta desde una estación de trabajo conectada a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corre bajo WINE e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usa el puerto TCP 8291 para conectarse al ru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ón entre el winbox y el ruteador esta encrip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el Router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es un sistema operativo y software que convierte a una PC en un ruteador dedicado, bridge, firewall, controlador de ancho de banda, punto de acceso inalámbrico o cliente y mucho 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puede hacer casi cualquier cosa que tenga que ver con tus necesidades de red, además de cierta funcionalidad como serv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talación d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teador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Mikro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ikroTik puede ser instal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ppy dis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tedio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 creado desde una imagen ISO, contiene todos los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ía red usando netinstall, la pc donde se insta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botear con un floppy, o usando Protocolos PXE o EtherBoot desde algunas ROMS de ciertas tarjetas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imagen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Memoria Flash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es un programa que convierte tu estación de trabajo en un 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insta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usa los paquetes de programas desde tu estacion de trabajo y los instal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C que boteo usando PXE or Ether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co secundario de tu 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.exe y los programas de paquetes pueden ser bajados desde mikroti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Insta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el RouterBoard para botar des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Board y tu estación de trabajo deben estar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ismo segmento de red o conectados con un cable cru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netinstall en tu estación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el ruteador donde se inst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los paquetes de programa a ins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e el Boot Server y la dirección del cliente (poner direccion ip del mismo segmento que tenga la pc a insta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0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tualizando e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nga los archivos de las  nuevas versiones en el router por medio de FTP usando modo binario de transmision y reinicie el router “/system rebo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s usar la instrucción “/system upgrade” para transferir los archivos desde un server FTP o desde otro ruteador si los tienes ahí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faces deben estar habilitadas y funcionando (cables conectados, interfase inalámbrica configu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IP asignadas a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addres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address=10.1.0.2/24 interface=eth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la ruta d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route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gateway=10.1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 ‘Set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setup’ para la configuración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otros menús tienen opción de setup, entre el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HCP serve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 Bridge son anadidas con el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/interface bridge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haber mas de una interfase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u pu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r el nombre de la interfase Bri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ar el STP (Spanning Tree Protocol) y configur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ar los protocolos a pasar de un bridge a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uertos d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Interfase puede ser configurada para ser miembro de u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faces inalámbricas en modo estación no pueden ser parte de un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oridad y costo de path pueden ser ajustadas para su uso con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de una Red Pri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a tu ruteador  vía cable cru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Mac-Telnet para conectarte 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ueve todas las direcciones de las interf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ecciona una red privada para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…., or 192.168…., or 172.16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 una dirección privada para la eth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o en kernel de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jecutarse desde discos IDE o módulos de memoria fl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mo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actualiz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grafica amig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8360" y="3206880"/>
            <a:ext cx="302400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095640" cy="16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el setup  /ip dhcp-server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las ips de tus ruteadores como servidores DNS en la configuración de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si la estación de trabajo recibe una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las ips asig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dhcp-server leas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78000" y="1268280"/>
            <a:ext cx="448164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del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glas de firewall están organizadas en cadenas (ch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cadenas son procesadas en el orden que apa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gla la cumple un paquete, la accion especificada es to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aquete no cumple la regla , o hay una acción=passthrough,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para la cadena es hecha después de haber alcanzado el fin de l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default hay 3 cadenas inclu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put – procesa paquetes que tienen como destino 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put – procesa paquetes que son mandados por el mismo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ward – procesa trafico que ‘pasa’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 pueden añadir sus propias cadenas de firewall y reglas a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las cadenas añadidas por el usuario pueden ser procesadas usando la opción=jump desde la cadena del usuario a otra regla en otr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ciones de las regl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una regla de firewall se cumple para un paquete, una de las siguientes acciones puede hace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sthrough – action es ejecutada y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ept – paquete es acep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rop – paquete es ign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ject – paquete es ignorado y se le manda un mensaje ICMP al que lo 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mp – paquete es mandado para su procesamiento a otr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– paquete es retornado a la tabla previa , desde donde fue rec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giendo el rut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ceso al router es controlado por las reglas de filtrado de la cadena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os filtros de IP no filtran comunicaciones de nivel 2 OSI, por ejemplo MAC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habilite el MAC-Server al menos en la interfase publica para asegurar buen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reglas en esta cadena como es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“established” y “related”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pings limitados, hacer drop de exceso de 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de redes “segu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via PPTP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op y log todo lo 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established comment="Establish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related comment="Relat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comment=“Allow UDP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limit-count=50 limit-time=5s limit-burst=2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limited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excess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59.148.147.192/28 comment="From trusted network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92.168.1.0/24 comment="From our private networ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tcp-options=syn-only dst-port=1723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47 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action=drop log=yes comment="Log and drop everything el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135-139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135-139 action=drop comment="Drop Messeng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virus cono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s iniciados por virus conocidos, pueden ser filtrados por reglas en alguna cadena definida por el usu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Messeng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44 action=drop comment="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2345 action=drop comment="NetB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es por insta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as funcionalidades requieren de cierto nivel de licenciami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nunca expira , esto significa que 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ra “de por vid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uteador puede ser actualizado durante el periodo de actualización (1 año después de la compra de la licenc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eriodo de actualización puede ser extendido a un 60% del costo de la lic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mp a la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mp a la cadena definida por el usuario desde las cadenas input y forward despues de las primeras dos reg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establish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Establish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relat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Relat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d action=jump jump-target=virus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ment=“Checando por vir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ja su router de accesos no autorizados con cadenas de 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a acceso solo desde la red que estas usando en la laptop y el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 todo acceso no aut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ueba si el acceso ha sido bloqueado desde fu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do de paqu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ueden cambiar sus parámetros iniciales, ejemplo, sus direcciones dentro del firewall, de la misma manera los paquetes pueden ser marcados para identificarlos después dentro del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r es la única manera de identificar paquetes dentro de los queues de ár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do de paquetes puede ser usado como un clasificador para diferentes políticas de ru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empre cheque el diagrama de la estructura del firewall para entender los procedimientos correctos de configuración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cking’ de Conex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ection Tracking (CONNTRACK) es un sistema que crea una tabla de conexiones 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tatus es asignado para cada paqu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lid – paquete ya no forma parte de ninguna conexión cono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w – el paquete esta abriendo una nueva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ished – el paquete pertenece a una conexión estab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ed – el paquete crea una nueva conexión relativa a alguna conexion y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tatus no es necesario solamente para conexiones TCP. De cualquier manera ‘connection’ es considerada aquí como un intercambio de datos de dos v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atus es usado en los filtros de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usado para marcar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necesario para hacer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t de or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RC-NAT permite el cambio de dirección origen y puerto a la dirección local y puerto del ruteador (enmascaramiento), o algún otra dirección y puerto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licación típica de  SRC-NAT es esconder una red privada detrás de una o mas direcciones pu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origen trasladada debe pertenecer al ruteador, a menos que otras medidas sean tomadas para asegurar el uso de diferentes dire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a dirección origen a ser enmasca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src-address=192.168.0.0/24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, Especifique la interfase de salida, cuando enmascaramiento deba ser 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out-interface=Public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enmascarar trafico originado desde tu red privada, cuando esta salga del ruteador por la interfase pub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355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cambiar la 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el puerto del receptor a alguna otra dirección y puerto conocido localmente por el rute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llegue a e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ía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picamente usado para acceder servicios en una red privada desde direcciones publicas accediendo las direcciones publicas que enmascaran algun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Destination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eccione el puerto TCP  2323 al puerto 23 del rou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redirect to-dst-port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, haga NAT al puerto interno (23) del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nat to-dst-port=23 to-dst-address= 192.168.0.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trasladar paquetes con destino la ip publica y puerto 81 hacia la dirección interna y puerto 80 del servido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81720" y="2157480"/>
            <a:ext cx="23716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0: DEMO, GRATIS, tiene todas las funcionalidades sin limite, funciona solo 24 hrs, después de ello debe de ser RE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1: Licencia SOHO, GRATIS, pero requiere registrarse en </a:t>
            </a: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ikrotik.co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, tiene limitaciones, (1src-nat, 1dst-nat, 1 pppo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s acerca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mandar datos a algún servidor a otro servidor y puer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esconder varios servidores detrás de una dirección IP. Los servidores son seleccionados por puerto, o por algún otro parámetro, como origen del paque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e los contadores de paquetes y bytes para las reglas 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va las reglas para que se ejecuten en el orden corr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paquetes para ver que protocolo, direcciones y puerto t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4: WISP,  cliente inalámbric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 de Acc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alámbrico, gateway de HotS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5: WISP AP,  Access Point inalámbrico y cliente, Gateway de HotSpot (mas conexiones soport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6: CONTROLLER, Todo sin lim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ta: Una Licencia basta para cualquier numero de interfaces inalámbricas en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eo. Estático o dinámico, políticas de enru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idging. Protocolo Spanning tree, interfaces múltiples bridge, firewall  en el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es y clientes: DHCP, PPPoE, PPTP, PPP, Relay de DH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che: Web-proxy,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teway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nguaje interno d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ado de paquetes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en, IP de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ocolos,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nido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conex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detectar ataques de denegación de servicio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solamente cierto numero de paquetes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pasa enseguida si el limite es desbordado o sobre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rvicio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os tipos de tipos de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, BFIFO, PFIFO, 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cillo de aplicar queues 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rigen/destino red/dirección ip de cliente,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rboles de queues mas comple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protocolo, puerto, tipo de conex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07:11Z</dcterms:created>
  <dc:creator>Arnis</dc:creator>
  <dc:description/>
  <dc:language>en-US</dc:language>
  <cp:lastModifiedBy>Alfonso Urbina Araux</cp:lastModifiedBy>
  <cp:lastPrinted>2002-11-13T14:42:35Z</cp:lastPrinted>
  <dcterms:modified xsi:type="dcterms:W3CDTF">2006-02-23T20:18:58Z</dcterms:modified>
  <cp:revision>213</cp:revision>
  <dc:subject/>
  <dc:title>Wireless Hotspot Access</dc:title>
</cp:coreProperties>
</file>